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0AC-40C2-43E6-913A-56AD3520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CD8-1C24-481F-B610-46CC5FED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4DE-0F40-4D2B-90E0-D9FF0D96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03E-3522-40CC-A7DC-A05DB44D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6746-B07A-40A4-BD60-F6BF1B33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9561-81D8-4C6B-BEEC-D2FDFF8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C6D6-383C-4E88-91B5-CC94900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4487-47E1-4F62-B039-25A1AC97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EB17-1417-4582-8EA4-3C651E7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2B81-A20B-487A-8925-69533703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1F6-B67B-4B31-848B-4D9012C7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F40-BD93-4CAB-AD66-4163546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5B5-6A0F-4744-A1C8-F7C25D01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2604-0994-4D8A-8621-5231DA4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523B-E284-4898-935E-E011455D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DE6E-2C35-4BE0-AE2F-36CC05B0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C12D-A6A1-48A3-953D-41072DF4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9D2-C042-4D4D-A39A-03754FB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338-9A0D-4ED9-8C2D-9C24E4CE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2F7-6A67-48E0-8316-0D5BD81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33B-AAA8-4FDE-92BE-7E0AE9DA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29B-80F8-4222-B8A3-97E074F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92B-C59B-4D51-83A5-B5354AD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BE2-F05D-4615-B45C-5DEEF98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EC2-29AA-410D-B93A-6AB87671A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570-DE1F-45FC-B8B1-344428F67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4360" y="836640"/>
            <a:ext cx="7632720" cy="42480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лементы печного агрегат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елка  состоит из корпуса , который двумя лапами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­мощью двух установочных винто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единяется с патрубк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ода газ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трубо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 с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ланцем подводит воздух. Со сто­роны выхода газовоздушной смеси в корпус горелки вставлена жароупорная насадк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9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крепится болтами к внешней стороне пе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рпусе расположена газовая труба 7, ввернутая в патрубок подвода газ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гайка 5уплотняет резьбовое соединение патрубка и газовой трубы. В выходной части последней размещена крестовин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0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основания которой на трубу надет рассекатель воздух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8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ю­щий собой повернутые относительно оси металлические лепестки, надетые на кольцо. Между концами лепестков и внутренней поверхностью корпуса имеется небольшой заз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d40"/>
                </a:solidFill>
                <a:latin typeface="Arial"/>
              </a:rPr>
              <a:t>Форсунки</a:t>
            </a: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сжигания жидкого топлива наибольшее распространение получили форсунки с паровым или воздушным распылите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рсунка с воздушным распылителем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оит из кор­пуса , наружной трубы распылителя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утренней трубы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топлива, наружного сопл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утреннего сопла 5 и иглы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гулирования подачи топлива. Положение иглы фиксируется штурвало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8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плотность установки стержня иглы достигается сальниковой набив­кой и нажимной гайкой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9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дух подается к форсункам от вентилятора через отверст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топливо от расходного бачка — к отверстию 7. Производительность форсунки — до 400 кг/ч при давлении воздуха 0,023...0,025 МПа. На распыливание 1 кг мазута расходуется 1,6...1,75 м3 воздух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рсунка с универсальным распылителем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оит из ме­таллического корпус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нутри которого горизонтально расположен ствол форсунки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ранный из двух трубок (одна в другой), наконеч­ник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9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ыливающего конус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8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пла 7. В кладке стены топки выкла­дывается зажигательный конус &lt;5из огнеупорного кирпича. Корпус фор­сунки болтами крепится к кладке стены топ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дух к форсунке подается по трубопроводу, присоединенному к патрубку 5, топливо — к патрубку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резервный (на случай перехода с воздушного распыливания на паровое) — к патрубку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гулиро­вания подачи топлива предусмотрена игл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с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овичком. Производи­тельность форсунки зависит от ее габаритов и составляет от 2,5 до 250 кг/ч при давлении воздуха 0,024...0,026 МПа. Давление топлива перед соплом форсуночных агрегатов любых конструкций должно быть не ниже 1...1,2 М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bd40"/>
                </a:solidFill>
                <a:latin typeface="Arial"/>
              </a:rPr>
              <a:t>Форсунки для сжигания жидкого топлива:</a:t>
            </a:r>
            <a:br>
              <a:rPr sz="2000"/>
            </a:br>
            <a:r>
              <a:rPr b="0" i="1" lang="en-US" sz="2000" spc="-1" strike="noStrike">
                <a:solidFill>
                  <a:srgbClr val="cebd40"/>
                </a:solidFill>
                <a:latin typeface="Arial"/>
              </a:rPr>
              <a:t>а—с </a:t>
            </a:r>
            <a:r>
              <a:rPr b="0" lang="en-US" sz="2000" spc="-1" strike="noStrike">
                <a:solidFill>
                  <a:srgbClr val="cebd40"/>
                </a:solidFill>
                <a:latin typeface="Arial"/>
              </a:rPr>
              <a:t>воздушным распылителем; б —с универсальным распылителем</a:t>
            </a:r>
            <a:endParaRPr b="0" lang="en-US" sz="20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13600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d40"/>
                </a:solidFill>
                <a:latin typeface="Arial"/>
              </a:rPr>
              <a:t>Электронагреватели</a:t>
            </a: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обогрева печей применяют электронагре­ватели (ТЭНы) различной конфигурации, кварцевые излучатели, лампы инфракрасного нагрева (ИК), токи высокой част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лебопекарных печах применяются трубчатые электронагревате­ли: прямые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образ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ни состоят из спиралей сопротивления , изготавливаемых из нихромовой или фехралевой проволоки и заключенных в стальные или латунные тонкостенные трубки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аметром 12,5...25 мм, заполненные изолирующим теплопроводным ма­териалом — магнезито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а конца проволоки оканчиваются изоля­торами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леммами 5 для присоединения к сети пит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76327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Пекарная камера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екарной камере в тестовых полуфабрикатах протекают сложные физические, коллоидные, микробиологические и биохимические процессы, в результате которых тесто превращается в готовое изделие. Конфигурация и размеры пекарной камеры зависят от назначения и производительности печи, вида вырабатываемых изде­лий и организации производствен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роцессе выпечки в пекарной камере тепло передается тестовым заготовкам в результате излучения (70...90%) от поверхностей нагрева, конвекции — от парогазовой среды пекарной камеры и теплопроводно­сти — от пода печи к нижней поверхности тестовой заготовки (10...30%). Пекарные камеры печей бывают тупиковые, в которых посадка тес­товых заготовок на под и выгрузка готовой продукции производится че­рез одно окно (устье), и туннельные, в которых посадка производится с одной стороны пекарной камеры, а выгрузка — с противополож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карная камера туннельных печей имеет прямоугольное сечение. Как правило, пекарная камера изготавливается из металлических лис­тов толщиной 2...4 мм, а каркас — из профильного металла. В большин­стве конструкций туннельных печей сетчатый под перемещается по ниж­ней стенке пекарной кам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екарной камере размещены теплообменные устройства в виде ка­налов, пароводяных трубок, электронагревательных элементов, горелок, увлажнительные устройства и другие вспомогательные приспособления. Для наблюдения за процессом выпечки вдоль пекарной камеры устанавливаются смотровые люки, оборудованные осветительными устройствами. Во время работы печи крышки люков (дверки) должны быть плот­но закрыты во избежание излишней вентиляции пекарной камеры и кон­денсации пара в люках. Для контроля и регулирования температуры внут­ри пекарной камеры устанавливают термопары или термомет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оцессе выпечки вместе с парами упека из тестовых заготовок выделяется комплекс ценных ароматических веществ, формирующих в значительной степени вкусовые качества выпеченного хлеба. При на­личии неплотностей в рабочей камере хлебопекарной печи этот арома­тический комплекс выбрасывается вместе с влажным воздухом из каме­ры в пекарный зал. Кроме того, удаляющаяся через неплотности в пекарной камере паровоздушная смесь имеет сравнительно высокую тем­пературу (порядка 200°С). Это приводит к значительным потерям теп­лоты, что, в свою очередь, вызывает перерасход топлива, сжигаемого в топочном устройстве. Поэтому одним из основных показателей, харак­теризующих качество работы пекарной камеры, является ее герметич ность, т.е. отсутствие в стенках камеры щелей, трещин и т.п., через кото­рые из камеры может удаляться паровоздушная сме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вентиляции пекарной камеры в стенах обмуровки предусмот­рены каналы, соединенные с тяговыми устройствами печи. В других кон­струкциях печей в перекрытии пекарной камеры устанавливают патруб­ки, соединенные с общей системой вентиляции предприятия или с вы­тяжными трубами, выведенными наружу. Из пекарных камер, имеющих форму горизонтального туннеля, паровоздушную смесь отводят по тор­цам (при помощи вытяжных зонтов) и по длине пекарной кам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ечах со сложной формой пекарной камеры (типа ПХК) вентиля­цию используют реже, что способствует сохранению ароматических ве­ществ в выпекаемом хлебе. В этих конструкциях паровоздушную смесь отводят в начале и в конце пекарной камеры вытяжными зонтами, рас­положенными у концов печи, а также с обеих сторон пароувлажнитель-ного устройства. Направление движения паровоздушной смеси, удаляе­мой из парового колпака, регулируют заслонками. Вытяжной зонт у вы­ходного отверстия печи соединен с вытяжной трубой. Смесь отсасывается в результате разрежения, создаваемого трубой. Вытяжная система от пароувлажнительного устройства включает в себя вентилятор. Натру-бах установлены регулирующие заслонки. Напорный патрубок вентиля­тора соединен с вытяжной трубой прямоугольным воздуховод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Теплопередающие устройства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обходимая для выпечки изделий теп­лота поступает в пекарную камеру от генератора. При использовании в качестве теплоносителя топочных газов, протекающих по каналам, печи называются канальным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 конструкции каналы делятся на две группы: каналы с большим термическим сопротивлением, стенки и свод которых выложены из ша­мотного кирпича или огнеупорного бетона, и каналы с малым терми­ческим сопротивлением, выполненные из листовой стали, чугунных ил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тальных труб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 каналам с большим термическим сопротивлением относится топка-канал, в которой сжигается топливо. Поверхностью теплообмена слу­жит стенка, обращенная в пекарную камеру. Эти каналы используются при транспортировании газов с температурой выше 800°С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каналах с малым термическим сопротивлением теплообмен осу­ществляется через поверхность труб, металлический под, сетчатую лен­ту и т.д. При этом пучки труб могут располагаться как вдоль, так и попе­рек пекарной камеры, над верхней ветвью или между двумя ветвями печ­ного конвейер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чи с канальным обогревом можно разделить на два типа: каналь­ные печи без рециркуляции и печи с рециркуляцией продуктов сгора­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чи первого типа получили распространение для выпечки хлебо­булочных, мучных кондитерских, бараночных и сухарных изделий, так как в их топках можно сжигать как твердое, так и жидкое или газообраз­ное топливо. Кроме того, они надежны в эксплуатации, имеют большой диапазон производительности при выпечке широкого ассортимент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делий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чи с рециркуляцией продуктов сгорания, т.е. с возвратом части отработанных газов и при смешивании их с активными газами, получи­ли распространение после перевода предприятий на использование га­зообразного и жидкого топлива. Эти печи имеют малоинерционную сис­тему обогрева. Продукты сгорания распределяются по обогревательным каналам параллельно, что позволяет создать в каждой зоне оптимальный тепловой режим, сохранить металлические каналы, использовать для их изготовления обычную нежаропрочную сталь и тем самым снизить сто­имость изготовле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истема рециркуляции дымовых газов широко используется в тун­нельных печах с газовым обогревом, где из топки в металлические кана­лы поступают газы с высокой температурой. При использовании в каче­стве теплоносителя пара высокого давления, получаемого в экраниро­ванных топках или в трубчатых котлах системы Г. П. Марсакова, он транспортируется к нагревательным секциям, расположенным в пекар­ной камере, по стальным бесшовным толстостенным трубам диаметром 24 мм. Нагревательные секции изготавливаются из тех же бесшовных стальных труб способом газо- или электросварки. После сборки вся сис­тема подвергается гидравлическому испытанию на двойное рабочее дав­ление, т.е. до 24...25 МП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печах с пароводяным и комбинированным обогревом в качестве теплопередающих устройств широко используются нагревательные па­роводяные бесшовные толстостенные трубы, на '/3 заполненные дистил­лированной водой, оба конца которых тщательно заварен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296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ля предотвращения перегрева топочного конца трубы и ее разры­ва давление в трубе не должно превышать 13...14 МПа. Это достигается правильным ведением процесса сжигания топлива в зависимости от загрузки пекарной камеры, качества топлива и других фактор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временная хлебопекарная печь является агрегатом, который состоит из следующих основных элементов: генератора тепла, пекарной камеры, пода печи, тепло передающих устройств, ограждений, вспомогательных устройств и контрольно-измерительных прибор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енератором тепла у большинства хлебопекарных печей является топка. Топки бывают двух видов: для сжигания газообразного или жид­кого топлива (газ, нефть, мазут и т.п.) и твердого топлива (уголь, дрова, торф и др.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азообразное топливо широко применяется в хлебопекарной про­мышленности. Оно имеет ряд преимуществ перед твердым и жидким топливом: транспортируется по трубам, при этом отсутствует необходимость в складах для топлива; при сжигании газа поверхности греющих каналов не загрязняются золой и сажей; улучшаются условия труда обслуживающего персон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месте с тем применение газа имеет ряд недостатков: горючие газы ядовиты и могут быть причиной отравлений, они могут образовывать с воздухом взрывоопасную смесь, поэтому газопроводы и арматура дол­жны быть плот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еплотворная способность газа очень велика. В городскую газовую сеть газ под давлением подается из газопровода, идущего от газового месторождения, через распределительную стан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ак как в процессе горения происходит соединение горючих элемен­тов топлива с кислородом воздуха, то основной задачей при сжигании топлива является наиболее полное соприкосновение топлива с воздухом. Недостаток воздуха может привести к нарушению нормального протекания процесса горения (к неполному сгоранию топлива). В современных конструкциях хлебопекарных печей, дымовая труба которых не мо­жет обеспечить достаточной тяги, применяется искусственная тяга, создаваемая при помощи дымосос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Вспомогательные устройства печного агрегата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ключают теплоутилизаторы, системы увлажнения среды пекарной камеры и ее вентиля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и, дутьевые и тяговые устройства генератора теплоты, контрольно-из­мерительные приборы и системы регул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карной камере конвейерных печей устанавливаются увлажни­тельные устройства разных конструкций, которые включают в себя одну или несколько перфорированных труб, расположенных в зоне увлажнения. Количество пара, поступающего в увлажнительное устройство, ре­гулируется вручную при помощи вентилей, располагаемых в наиболее доступном мес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езультате конденсации пара крахмал на поверхности заготовки клейстеризуется, переходя частично в растворимый крахмал и декстрины. Жидкая масса растворимого крахмала и декстринов заполняет поры на поверхности заготовки, сглаживает мелкие неровности и после обезвоживания придает корке блеск и гляне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 подводят в пекарную камеру  от паропроводов 7 и 2, оснащенных вентиле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манометром , по перфорированным труба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рез боковую поверхность пекарной кам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уменьшения растекания паровоздушной смеси зона увлажнения отделена от остальной части камеры поворотными заслонками, а на пароподающих трубах установлен колпак. Для снижения вентиляционных потерь загрузочное отверстие пекарной камеры оборудовано подъем­ной заслонкой. Снаружи печи установлен водоотделитель 7, к которому присоединены перфорированные трубы. Каждая паровая труба снабже­на краном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гулирования подачи пара и рукояткой 5, с помо­щью которой можно поворотом трубы придать струям пара нужное направление. Давление пара в трубах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олируется с                 помощью манометр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ие пароувлажнительного устройства в зоне, где верхние греющие поверхности имеют температуру 300...400°С приводит к перегреву пара и увеличению его расхода, ухудшению условий конденсации и качества большинства видов изделий. В ряде конструкций для устранения перегрева пара в зоне расположения паровых труб верхний обогре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хема подачи пара в пекарн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476360" y="3933720"/>
            <a:ext cx="576108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Контрольно-измерительные приборы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контроля температуры среды пекарной камеры применяются ртутные технические термометры, термоэлектрические пирометры с милливольтметрами и автома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тутны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технические термометры выпускают с прямым и угловым (на 90, 129 и 135°) стержнями длиной до 2 м. Для хлебопекарных печей применяют угловые (на 90°) термометры с пределом показаний до 400°С и длиной стержня от 750 до 1000 м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Термоэлектрическ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ирометры (термопары) основаны на принципе возникновения электродвижущей силы в двух тонких проволоках из разных металлических сплавов, спаянных в одном месте (горячий спай). Для измерения температуры среды применяются термопары (хромель-алюмель) с верхним пределом измерения до 1000°С и глубиной погру­жения до 150...1300 м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изация печного агрегата предусматрива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ь температуры среды во всех зонах пекарной каме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двухпозиционное регулирование температуры пекарной камеры со световой сигнализацией путем регулирования расхода топлива («боль­шой факел» — «малый факел»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ировку превышения температуры смеси топочных и рециркуля­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онных газов в камере смешения (защиту от пережога металличес­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х каналов системы обогрев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авление прерывистым движением конвейерного пода печи со све­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вой сигнализ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ика безопасности предусматривает автоматический розжиг печи, который состоит из следующих последовательных опера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вки газоходов печи перед пуском в течение 1...2ми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включения подачи топли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воспламенения топлива с помощью электродов зажигания, на кото­рые подается высокое напряжение от трансформатора зажиг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ержки, в течение которой (1 ...2 мин) происходит прогрев топки 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алом пламен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лючения горелки, если пламя не загорится в течение 15с посл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ключения подачи топли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ция топки зависит от рода сжигаемого топлива. Топочное устройство хлебопекарной печи, работающей на твердом топливе, состо­ит из следующих основных частей: колосниковой решетки, на которой происходит горение топлива; топочного пространства, где происходит сгорание летучих частей топлива; поддувала (зольника), через которое в топку подводится воздух и куда проваливается образующаяся при горении з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жигания газообразного и жидкого топлива в печах с рецирку­ляцией продуктов горения применяют топочные устройства, состоящие из  расположенных цилиндрических камер сгорания (топок) и смешения. Между ними расположен кольцевой зазор для прохода ре-циркулирующих газов. В цилиндре камеры смешения происходит пере­мешивание продуктов горения и рециркулирующих газов. Процесс го­рения в топке сопровождается теплоотдачей к омывающим ее рециркулирующим газам и излучением факела через выходные отверстия топоч­ного цилиндра в камеру смеш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246240"/>
            <a:ext cx="8785440" cy="642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d40"/>
                </a:solidFill>
                <a:latin typeface="Arial"/>
              </a:rPr>
              <a:t>Камера сгорания</a:t>
            </a: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оит из жароупорного цилиндра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единенного одной стороной с металлическим конусом , другой — четырьмя пластинками 9 с цилиндром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яя поверхность камеры собрана из трех металлических цилиндров; между цилиндрами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^уста­новлены дистанционные кольца 5. В цилиндре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ся патрубок для подвода рециркулирующего газа. Открытый левый торец камеры сгора­ния соединен с патрубком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6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одящим газ в каналы обогр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таллический конус набивается жароупорная масса «Динакс» с таким расчетом, чтобы остались три отверстия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10, Л, 12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ложен­ные горизонтально: для горелки, запальника и смотрового люка (на ри­сунке эти отверстия условно показаны в вертикальной плоскости). Закрытый торец камеры стыкуется с обшивкой печ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аз сгорает в жароупорном цилиндре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утренняя поверхность ко­торого футеруется кольцами из жароупорной массы, Рециркулирующие газы поступают через патрубок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, двигаясь между цилиндрами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3, охлаждают последний, затем огибают его торец и движутся к патрубку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6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отводит газ в каналы обогрева; при этом, касаясь наружной стен­ки цилиндра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снижают ее температур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ты горения и рециркулирующие газы смешиваются в цилин­дре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Для удаления продуктов горения и рециркулирующих газов на вы­ходе из камеры поддерживают разрежение порядка 30 П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я работы камеры жароупорная масса «Динакс» раскаляется до свечения и облучает зону горения газа, тем самым поддерживая устой­чивую температуру и обеспечивая полное сгор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пературное расширение камеры компенсируется тем, что ци­линдр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аправляющих пластинках скользит вдоль цилиндра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3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­бодный конец которого перемещается в сторону входной части камеры. Температурное удлинение наружного цилиндра 4 совпадает с общим по­перечным температурным расширением пекарной камеры; дополнитель­ное расширение поглощается асбестовыми прокладк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жигания газа в топках применяют газовые горелки двух типов: инжекционные и внутреннего смешения с принудительной подачей воз­духа. Тип газогорелочных устройств выбирают в зависимости от расхода газа, конструкции печного агрегата, топочного устройства, давления газа в сети и т.д. Для сжигания жидкого топлива применяют форсунки с па­ровым и воздушным распылителямиИнжекционные горелки по конструкции несложны, в обслуживании просты и могут работать при невысоком давлении газа без специальных установок и затрат энергии на подачу первичного воздуха. Они обеспечи­вают получение короткого прозрачного факела с высокой температурой, которая снижается по длине топочной камеры (давление газа 5. ..15 кП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bd40"/>
                </a:solidFill>
                <a:latin typeface="Arial"/>
              </a:rPr>
              <a:t>Инжекционная газовая горелка среднего давления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а наибольшее распространение в промышленности. Горелк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насадки , смесител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зового сопл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йбы 4 для регулирования расхода воздуха, установленной на трубе 5, подающей газ к горелк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672000" cy="252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3578400" cy="252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bd40"/>
                </a:solidFill>
                <a:latin typeface="Arial"/>
              </a:rPr>
              <a:t>Инжекционная многофакельная горелка низкого давления</a:t>
            </a:r>
            <a:r>
              <a:rPr b="0" lang="en-US" sz="40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ла при­менение на ряде хлебозаводов. Горелка состоит из газового сопла 7, шайбы .2для регулирования подачи воздуха, листа Здля установ­ки горелки на фронте печи, инжектора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тора 5 газовоздушной смеси с огневыми насад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воздух для горения засасывается в камеры смешения газовой струей, откуда смесь поступает в диффузор, далее направляется в головку и проходит через ее отверстия, где газ сгорает с использовани­ем как первичного, так и вторичного возду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горелки имеют ряд преимуществ: по сравнению с аналогичны­ми горелками уменьшается утечка газа и шум во время работы горелок, облегчается обслуживание и т.п. В целях безопасной эксплуатации газо­вых установок предусматривается устройство автоматических клапанов-отсекателей, прекращающих подачу газа к горелкам при снижении его давления ниже допустимого пред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0:17:01Z</dcterms:created>
  <dc:creator>UserLib</dc:creator>
  <dc:description/>
  <dc:language>en-US</dc:language>
  <cp:lastModifiedBy>UserLib</cp:lastModifiedBy>
  <dcterms:modified xsi:type="dcterms:W3CDTF">2011-11-16T11:06:52Z</dcterms:modified>
  <cp:revision>2</cp:revision>
  <dc:subject/>
  <dc:title>Слайд 1</dc:title>
</cp:coreProperties>
</file>